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2340-2834-4F3D-8158-B3FF26BE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EDE6-C2DE-46B8-9DE4-5676DD12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AD94-69A7-4DFC-AED6-EC7027FE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3594-5D2B-46F8-BA41-8B6900BB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337E-F45E-456A-ABF3-A07338EF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64E5-B171-4F6C-8C02-C7098A15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018-E385-4166-B453-BB26AEB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E83-7355-4C46-AED0-40724F0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A8E-6AF4-4C91-8AB4-32695CE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3544-025F-4C05-BE0C-874ABE1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BD5-5AA3-4516-AFF7-9C20A0E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C6C8-8DAA-4040-BBA3-2F14EA1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B43-DADD-4435-9775-B8C4FFC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932F-B1C9-4E0A-BFBB-CE6D980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7495-FB32-4077-83E3-93350545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5E44-C258-4E82-8E79-26F6394C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21EE-CFEF-4BE9-91C3-C2F90F07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A18C-61A7-4860-AAB6-451895CD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D0C0-AD70-4430-BD3E-3ACBCBB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BB68-DDDC-49D4-9569-E9EB64B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060C-9BE9-4998-B8A7-AC377571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8167-D42C-422A-B032-850BB7DB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5802-34AE-4847-AFE3-29744AB3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886A-2529-40EE-9317-A91EDFA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BBF8-A500-4825-941F-6B19C8F0733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8C9C-ACBC-4EC9-B49B-260CD8A109F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7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7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Малки водни кап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ребни пясъц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авят вси море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обри зем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ратките момен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екунди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авят времена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и век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Малките ръчич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гат заед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дребните краче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вършат добр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чи верни, ми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престанно бд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правят услуг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вга те не сп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алките погреш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одят ни във гря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решници ни правя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сят мъки, смър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лките дела пъ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орени с любов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 помагат в път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ъмто небес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10T06:30:03Z</dcterms:modified>
  <cp:revision>210</cp:revision>
  <dc:subject/>
  <dc:title>Slide 1</dc:title>
</cp:coreProperties>
</file>